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4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jpeg" ContentType="image/jpeg"/>
  <Override PartName="/ppt/media/image10.wmf" ContentType="image/x-wmf"/>
  <Override PartName="/ppt/media/image22.wmf" ContentType="image/x-wmf"/>
  <Override PartName="/ppt/media/image6.png" ContentType="image/png"/>
  <Override PartName="/ppt/media/image21.png" ContentType="image/png"/>
  <Override PartName="/ppt/media/image20.wmf" ContentType="image/x-wmf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wmf" ContentType="image/x-wmf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02EDA6-97F0-422B-AB79-3666C7831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471B57-7237-4ECD-B3E3-22733D766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1EB43C-C9FF-46E9-904C-C047F749D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04B4B4-C6D4-4005-9B18-F5FFCB462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2D894-164B-4C34-97DD-EEE537BAA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A354E-8CB5-4AC4-8A89-04B5BBE4D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F6A52-C911-4331-B79A-F9DC0718E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24E78-DAEF-400B-A060-3DFD9363A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404DF-CBB2-4FC6-9CED-DD209F43C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39326-CEE9-46E4-B092-CE669F617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B28F3-C8AC-44B3-B70E-40DBF4C29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531716-E0DD-470E-B48F-746148992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C070B-E00A-4E8E-AA9B-059D0EEA2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5EE0F-98B3-41C2-8585-E6742F89E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50B32-CAD0-4B18-B6A5-CF3545531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ACD80-BA39-4759-B1AE-5225381FC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EF750-2924-4243-89AB-DE861686C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9CF3BD-CB9B-4223-8EE9-D8064BB27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838A7B-56CF-48CB-ADF1-C2DC9EECD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6009F7-A4EA-4EB0-931D-E5EB9F33C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178EAF-E60F-4468-85C9-0E2A5CE07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105031-C8E0-46A9-86D1-C53C7A89E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A4781D-EB79-4FF7-A6E8-ECFCF9425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AF7989-90D8-49E2-8472-9824913E2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399E5-5A8F-439A-BA51-E309367CE5A0}" type="slidenum">
              <a:rPr b="0" lang="it-IT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8F273-84BB-434B-A5B2-F8ECFCBA2841}" type="slidenum">
              <a:rPr b="0" lang="it-IT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9640" y="1125360"/>
            <a:ext cx="7920000" cy="24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ХОЛОДИЛЬНЫЕ СИСТЕМЫ  И ТЕПЛОВЫЕ НАСОСЫ РАБОТАЮЩИЕ НА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3600" spc="-1" strike="noStrike" baseline="-25000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В КАЧЕСТВЕ ХЛАДАГЕН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4"/>
          <p:cNvSpPr/>
          <p:nvPr/>
        </p:nvSpPr>
        <p:spPr>
          <a:xfrm>
            <a:off x="755640" y="3860640"/>
            <a:ext cx="7489800" cy="141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. Жиротт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nex S.r.l.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тал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ergio.girotto@enex-ref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9"/>
          <p:cNvSpPr/>
          <p:nvPr/>
        </p:nvSpPr>
        <p:spPr>
          <a:xfrm>
            <a:off x="0" y="2990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54900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СПЫШКИ ПАРОВ РЕКОМПРЕССИИ 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(2)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оделирование климата Барсело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2" name="Grafico 3"/>
          <p:cNvGraphicFramePr/>
          <p:nvPr/>
        </p:nvGraphicFramePr>
        <p:xfrm>
          <a:off x="250920" y="1916280"/>
          <a:ext cx="4392360" cy="2520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3" name="Grafico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916280"/>
                    <a:ext cx="4392360" cy="252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Object 18"/>
          <p:cNvGraphicFramePr/>
          <p:nvPr/>
        </p:nvGraphicFramePr>
        <p:xfrm>
          <a:off x="4632480" y="1916280"/>
          <a:ext cx="4332240" cy="25063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35" name="Object 1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32480" y="1916280"/>
                    <a:ext cx="4332240" cy="250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1" descr="Chart_3"/>
          <p:cNvPicPr/>
          <p:nvPr/>
        </p:nvPicPr>
        <p:blipFill>
          <a:blip r:embed="rId1"/>
          <a:srcRect l="3999" t="0" r="0" b="-698"/>
          <a:stretch/>
        </p:blipFill>
        <p:spPr>
          <a:xfrm>
            <a:off x="1187280" y="1484280"/>
            <a:ext cx="6701040" cy="408960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-360" y="456840"/>
            <a:ext cx="8893080" cy="81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СПЫШКИ ПАРОВ РЕКОМПРЕССИИ 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(3)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Средняя температура в июл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1" descr="Chart_3"/>
          <p:cNvPicPr/>
          <p:nvPr/>
        </p:nvPicPr>
        <p:blipFill>
          <a:blip r:embed="rId1"/>
          <a:stretch/>
        </p:blipFill>
        <p:spPr>
          <a:xfrm>
            <a:off x="1116000" y="1270080"/>
            <a:ext cx="6840720" cy="424656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7"/>
          <p:cNvSpPr/>
          <p:nvPr/>
        </p:nvSpPr>
        <p:spPr>
          <a:xfrm>
            <a:off x="0" y="457200"/>
            <a:ext cx="8893080" cy="8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СПЫШКИ ПАРОВ РЕКОМПРЕССИИ 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(4)</a:t>
            </a:r>
            <a:r>
              <a:rPr b="1" lang="it-IT" sz="3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6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ксимальная суточная температура в июле</a:t>
            </a: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1" descr="Chart_3"/>
          <p:cNvPicPr/>
          <p:nvPr/>
        </p:nvPicPr>
        <p:blipFill>
          <a:blip r:embed="rId1"/>
          <a:stretch/>
        </p:blipFill>
        <p:spPr>
          <a:xfrm>
            <a:off x="1116000" y="1268280"/>
            <a:ext cx="6791400" cy="4216680"/>
          </a:xfrm>
          <a:prstGeom prst="rect">
            <a:avLst/>
          </a:prstGeom>
          <a:ln w="0">
            <a:noFill/>
          </a:ln>
        </p:spPr>
      </p:pic>
      <p:sp>
        <p:nvSpPr>
          <p:cNvPr id="141" name="Rectangle 6"/>
          <p:cNvSpPr/>
          <p:nvPr/>
        </p:nvSpPr>
        <p:spPr>
          <a:xfrm>
            <a:off x="0" y="476280"/>
            <a:ext cx="8893080" cy="8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СПЫШКИ ПАРОВ РЕКОМПРЕССИИ 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(5)</a:t>
            </a:r>
            <a:r>
              <a:rPr b="1" lang="it-IT" sz="3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6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редняя температура в сентябр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81" descr=""/>
          <p:cNvPicPr/>
          <p:nvPr/>
        </p:nvPicPr>
        <p:blipFill>
          <a:blip r:embed="rId1"/>
          <a:stretch/>
        </p:blipFill>
        <p:spPr>
          <a:xfrm>
            <a:off x="4286160" y="2286000"/>
            <a:ext cx="3311640" cy="24559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395280" y="979560"/>
            <a:ext cx="835344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Новые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системы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19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на рынке с 2006 года, после долгих разработок, которые начались в конце 90-х годов (первая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19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9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установка: 1999 - Италия / первая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19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- мультикомпрессор: 2001 - Италия) Сейчас есть стандартизированные и проверенные концепции дизайна.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ме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устерная систе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я супермаркет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19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в качестве хладагента использовался с начала xx века (до 50-х), но необходимо было полностью изменить разработки компонента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284"/>
          <p:cNvSpPr/>
          <p:nvPr/>
        </p:nvSpPr>
        <p:spPr>
          <a:xfrm>
            <a:off x="0" y="549360"/>
            <a:ext cx="9036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ММЕРЧЕСКИ ДОСТУПНЫЕ СИСТЕМЫ ОХЛАЖДЕНИЯ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4"/>
          <p:cNvSpPr/>
          <p:nvPr/>
        </p:nvSpPr>
        <p:spPr>
          <a:xfrm>
            <a:off x="539640" y="1341360"/>
            <a:ext cx="7631280" cy="40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ругие концепции, используемые только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качестве хладагента, хорошо проверены и доступны на рынк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дноступенчатые, с мощностью до 300 Квт при температур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спарения -10°C на большие холодильные камеры, гипермаркеты, вода и хладоносите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-ступенчатые встроенные, компаундные установки до 100 кВт при температуре испарения -35 ° C для глубокой заморозк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олодильные камеры, гипермаркеты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изко-температурный каскад (супермаркеты, холодильные туннелей,..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0" y="549360"/>
            <a:ext cx="9036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ММЕРЧЕСКИ ДОСТУПНЫЕ СИСТЕМЫ ОХЛАЖДЕНИ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4" descr="Viste disegno E4N"/>
          <p:cNvPicPr/>
          <p:nvPr/>
        </p:nvPicPr>
        <p:blipFill>
          <a:blip r:embed="rId1"/>
          <a:stretch/>
        </p:blipFill>
        <p:spPr>
          <a:xfrm>
            <a:off x="4716360" y="2681280"/>
            <a:ext cx="4183200" cy="2908440"/>
          </a:xfrm>
          <a:prstGeom prst="rect">
            <a:avLst/>
          </a:prstGeom>
          <a:ln w="0">
            <a:noFill/>
          </a:ln>
        </p:spPr>
      </p:pic>
      <p:sp>
        <p:nvSpPr>
          <p:cNvPr id="148" name="Rectangle 7"/>
          <p:cNvSpPr/>
          <p:nvPr/>
        </p:nvSpPr>
        <p:spPr>
          <a:xfrm>
            <a:off x="0" y="549360"/>
            <a:ext cx="9036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ММЕРЧЕСКИ ДОСТУПНЫЕ СИСТЕМЫ ОХЛАЖДЕНИ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9" descr=""/>
          <p:cNvPicPr/>
          <p:nvPr/>
        </p:nvPicPr>
        <p:blipFill>
          <a:blip r:embed="rId2"/>
          <a:stretch/>
        </p:blipFill>
        <p:spPr>
          <a:xfrm>
            <a:off x="179280" y="1125360"/>
            <a:ext cx="4391280" cy="285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5" descr=""/>
          <p:cNvPicPr/>
          <p:nvPr/>
        </p:nvPicPr>
        <p:blipFill>
          <a:blip r:embed="rId1"/>
          <a:stretch/>
        </p:blipFill>
        <p:spPr>
          <a:xfrm>
            <a:off x="4716360" y="2673360"/>
            <a:ext cx="4176720" cy="291636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647" descr=""/>
          <p:cNvPicPr/>
          <p:nvPr/>
        </p:nvPicPr>
        <p:blipFill>
          <a:blip r:embed="rId2"/>
          <a:stretch/>
        </p:blipFill>
        <p:spPr>
          <a:xfrm>
            <a:off x="179280" y="1125360"/>
            <a:ext cx="4408560" cy="2864160"/>
          </a:xfrm>
          <a:prstGeom prst="rect">
            <a:avLst/>
          </a:prstGeom>
          <a:ln w="0">
            <a:noFill/>
          </a:ln>
        </p:spPr>
      </p:pic>
      <p:sp>
        <p:nvSpPr>
          <p:cNvPr id="152" name="Rectangle 648"/>
          <p:cNvSpPr/>
          <p:nvPr/>
        </p:nvSpPr>
        <p:spPr>
          <a:xfrm>
            <a:off x="0" y="549360"/>
            <a:ext cx="9036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ММЕРЧЕСКИ ДОСТУПНЫЕ СИСТЕМЫ ОХЛАЖДЕНИ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4"/>
          <p:cNvSpPr/>
          <p:nvPr/>
        </p:nvSpPr>
        <p:spPr>
          <a:xfrm>
            <a:off x="0" y="549360"/>
            <a:ext cx="9036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ММЕРЧЕСКИ ДОСТУПНЫЕ СИСТЕМЫ ОХЛАЖДЕНИ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6" descr="CentraleE4N"/>
          <p:cNvPicPr/>
          <p:nvPr/>
        </p:nvPicPr>
        <p:blipFill>
          <a:blip r:embed="rId1"/>
          <a:srcRect l="12906" t="0" r="12906" b="3407"/>
          <a:stretch/>
        </p:blipFill>
        <p:spPr>
          <a:xfrm>
            <a:off x="2627280" y="1628640"/>
            <a:ext cx="3886200" cy="352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Immagine 1" descr=""/>
          <p:cNvPicPr/>
          <p:nvPr/>
        </p:nvPicPr>
        <p:blipFill>
          <a:blip r:embed="rId1"/>
          <a:srcRect l="0" t="3452" r="3973" b="6544"/>
          <a:stretch/>
        </p:blipFill>
        <p:spPr>
          <a:xfrm>
            <a:off x="1835280" y="3292560"/>
            <a:ext cx="5184720" cy="2297160"/>
          </a:xfrm>
          <a:prstGeom prst="rect">
            <a:avLst/>
          </a:prstGeom>
          <a:ln w="0">
            <a:noFill/>
          </a:ln>
        </p:spPr>
      </p:pic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3840" y="1071720"/>
            <a:ext cx="8533080" cy="23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Для одного конкретного приложения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17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 транскритическая концепция не имеет аналогов: тепловые насосы для получения бытовых нужд. </a:t>
            </a:r>
            <a:br>
              <a:rPr sz="1700"/>
            </a:br>
            <a:br>
              <a:rPr sz="1700"/>
            </a:b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Температурный глайд изобарных/неизотермических отводов тепла снижает термодинамические потери, что влечёт на этом уровне невозможность достижения любого другого существующего коммерческого решения: </a:t>
            </a: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Нагрев воды за один проход от 10° C до 90° C </a:t>
            </a: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- COP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 выше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на 4,0 для воздушно-теплового насоса с температурой воздуха 7° С-50% относительной влажности и воды на входе-выходе 10-65 ° C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9"/>
          <p:cNvSpPr/>
          <p:nvPr/>
        </p:nvSpPr>
        <p:spPr>
          <a:xfrm>
            <a:off x="971640" y="333360"/>
            <a:ext cx="748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ПЛОВЫЕ НАСОСЫ ДЛЯ ПОЛУЧЕНИЯ ГОРЯЧЕЙ ВО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66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казате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68000" y="1052640"/>
            <a:ext cx="828036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ЧЕМУ ПРИРОДНЫЙ ХЛАДАГЕНТ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ЗДЕЙСТВИЕ СО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R404A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НА ОКРУЖАЮЩУЮ СРЕД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МЕР - ТИПИЧНЫЙ "ХОЛОДНЫЙ КЛИМАТ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НВЕСТИЦИИ И ЭКСПЛУАТАЦИОННЫЕ РАСХОД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ФФЕКТИВ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СПЫШКИ ПАРОВ РЕКОМПРЕСС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ММЕРЧЕСКИ ДОСТУПНЫЕ СИСТЕМЫ ОХЛАЖД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ЕПЛОВЫЕ НАСОСЫ ДЛЯ ПОЛУЧЕНИЯ ГОРЯЧЕЙ ВОД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6" descr=""/>
          <p:cNvPicPr/>
          <p:nvPr/>
        </p:nvPicPr>
        <p:blipFill>
          <a:blip r:embed="rId1"/>
          <a:stretch/>
        </p:blipFill>
        <p:spPr>
          <a:xfrm>
            <a:off x="4500720" y="1484280"/>
            <a:ext cx="3816360" cy="234792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7"/>
          <p:cNvSpPr/>
          <p:nvPr/>
        </p:nvSpPr>
        <p:spPr>
          <a:xfrm>
            <a:off x="900000" y="620640"/>
            <a:ext cx="748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ПЛОВЫЕ НАСОСЫ ДЛЯ НАГРЕВА ВОДЫ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обогрева воздуха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Immagine 2" descr=""/>
          <p:cNvPicPr/>
          <p:nvPr/>
        </p:nvPicPr>
        <p:blipFill>
          <a:blip r:embed="rId2"/>
          <a:stretch/>
        </p:blipFill>
        <p:spPr>
          <a:xfrm>
            <a:off x="1187280" y="1484280"/>
            <a:ext cx="2737080" cy="2354400"/>
          </a:xfrm>
          <a:prstGeom prst="rect">
            <a:avLst/>
          </a:prstGeom>
          <a:ln w="0">
            <a:noFill/>
          </a:ln>
        </p:spPr>
      </p:pic>
      <p:sp>
        <p:nvSpPr>
          <p:cNvPr id="161" name="Text Box 9"/>
          <p:cNvSpPr/>
          <p:nvPr/>
        </p:nvSpPr>
        <p:spPr>
          <a:xfrm>
            <a:off x="611280" y="3933720"/>
            <a:ext cx="741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илучшее применени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Отели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ольницы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ачечны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ма престарел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де необходима горячая вода в больших количества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468360" y="2349000"/>
            <a:ext cx="8229600" cy="130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ольшое спасибо за ваше внимани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ЧЕМУ ПРИРОДНЫЙ ХЛАДАГЕНТ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85840" y="1213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476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Нулевой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ОРП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/ 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Нулевой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ПГП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76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Не токсичен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Не горючий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Совместим с обычными материалами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76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Никаких дальнейших изменений хладагента в будущем (с синтетическими хладагентами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: R12, R502, R22 -&gt; R404A/R507, R134a + 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десятки смесей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-&gt; HF1234yf -&gt; ?? 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что будет после?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76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19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в значительной степени доступны во всём мире, как побочный продукт и из-за низкой стоимости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76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Нет ограничений в соответствии с законодательством (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F-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газовая Директива в ЕС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24000" y="47592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ЗДЕЙСТВИЕ СО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/ R404A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НА ОКРУЖАЮЩУЮ СРЕДУ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ПРИМЕР - ТИПИЧНЫЙ "ХОЛОДНЫЙ КЛИМАТ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Content Placeholder 2"/>
          <p:cNvSpPr/>
          <p:nvPr/>
        </p:nvSpPr>
        <p:spPr>
          <a:xfrm>
            <a:off x="250920" y="1052640"/>
            <a:ext cx="86756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962" descr=""/>
          <p:cNvPicPr/>
          <p:nvPr/>
        </p:nvPicPr>
        <p:blipFill>
          <a:blip r:embed="rId1"/>
          <a:stretch/>
        </p:blipFill>
        <p:spPr>
          <a:xfrm>
            <a:off x="468360" y="1916280"/>
            <a:ext cx="8140680" cy="30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14200" y="642960"/>
            <a:ext cx="8786880" cy="66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НВЕСТИЦИИ И ЭКСПЛУАТАЦИОННЫЕ РАСХОДЫ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57120" y="1357200"/>
            <a:ext cx="8569440" cy="21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42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Для системы охлаждения одного супермаркета стоимость энергии в процессе эксплуатации системы составляет 85% от общих эксплуатационных расходов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2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В связи с этими, инвестиции и эксплуатационные расходы должны рассматриваться в совокупности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2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В сравнении между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DX-CO</a:t>
            </a:r>
            <a:r>
              <a:rPr b="0" lang="en-US" sz="17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и обычной системой ГФУ базовая разница составляет 1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00 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кВт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MT / 30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кВт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L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Object 11"/>
          <p:cNvGraphicFramePr/>
          <p:nvPr/>
        </p:nvGraphicFramePr>
        <p:xfrm>
          <a:off x="2214720" y="3357720"/>
          <a:ext cx="4038480" cy="2288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9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14720" y="3357720"/>
                    <a:ext cx="4038480" cy="228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250920" y="1628640"/>
            <a:ext cx="864216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надлежащем экономическом анализе необходимо учитывать другие факторы :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)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оимость заправки хладагента в процессе эксплуатации системы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)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оимость проверки из-за утечки выбросов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F-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азовая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иректив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)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предвиденные расходы и недоступный синтетический хладагент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)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оимость размещ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title"/>
          </p:nvPr>
        </p:nvSpPr>
        <p:spPr>
          <a:xfrm>
            <a:off x="457200" y="601200"/>
            <a:ext cx="8229600" cy="45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НВЕСТИЦИИ И ЭКСПЛУАТАЦИОННЫЕ РАСХОДЫ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68360" y="836640"/>
            <a:ext cx="842472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12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амо по себе не является "более эффективным" или "менее эффективным", чем другие смеси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2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ффективность теоретически не зависит от смеси, используемой в идеальном цикле (закон Карно). На практике это зависит от сочетания модели установки и хладагента.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2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лжна быть инструкция: для данного хладагента (рабочей смеси) , чтобы улучшить модель системы таким образом, чтобы получить максимальную производительность.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2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 сравнению с другими хладагентами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имеет более низкую критическую температуру, которое требует изменение цикла для некоторых приложе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ФФЕКТИВНОСТЬ 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ФФЕКТИВНОСТЬ 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0" y="999720"/>
            <a:ext cx="91440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lnSpc>
                <a:spcPct val="12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сравнении со смесями ГФУ нет большого различия, связанных с теплопередачей или снижением влияние разности давлений на эффективность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2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ффективность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выявляется при следующих условиях: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)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ксимальная рекуперация тепла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)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резвычайно низкое давление конденсации в зимнее время, когда не требуется рекуперация тепла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)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LPR дизайн – стандартная смесь для некоторых тепловых насосов и компрессорной установки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)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спышки паров рекомпрессии при тёплом климате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воздушным охлаждением системы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2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т окончательного решения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сширител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жекто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настоящий момент ведутся исследовательские рабо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10" descr=""/>
          <p:cNvPicPr/>
          <p:nvPr/>
        </p:nvPicPr>
        <p:blipFill>
          <a:blip r:embed="rId1"/>
          <a:stretch/>
        </p:blipFill>
        <p:spPr>
          <a:xfrm>
            <a:off x="2124000" y="976320"/>
            <a:ext cx="3368880" cy="20923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8" descr=""/>
          <p:cNvPicPr/>
          <p:nvPr/>
        </p:nvPicPr>
        <p:blipFill>
          <a:blip r:embed="rId2"/>
          <a:stretch/>
        </p:blipFill>
        <p:spPr>
          <a:xfrm>
            <a:off x="5291280" y="3141720"/>
            <a:ext cx="3384360" cy="21114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9" descr=""/>
          <p:cNvPicPr/>
          <p:nvPr/>
        </p:nvPicPr>
        <p:blipFill>
          <a:blip r:embed="rId3"/>
          <a:stretch/>
        </p:blipFill>
        <p:spPr>
          <a:xfrm>
            <a:off x="3276720" y="3068640"/>
            <a:ext cx="1871640" cy="25210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1" descr=""/>
          <p:cNvPicPr/>
          <p:nvPr/>
        </p:nvPicPr>
        <p:blipFill>
          <a:blip r:embed="rId4"/>
          <a:stretch/>
        </p:blipFill>
        <p:spPr>
          <a:xfrm>
            <a:off x="128520" y="1123920"/>
            <a:ext cx="1814760" cy="261936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СПЫШКИ ПАРОВ РЕКОМПРЕССИИ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9T03:28:16Z</dcterms:created>
  <dc:creator>judy</dc:creator>
  <dc:description/>
  <dc:language>en-US</dc:language>
  <cp:lastModifiedBy>home</cp:lastModifiedBy>
  <dcterms:modified xsi:type="dcterms:W3CDTF">2011-07-15T11:52:27Z</dcterms:modified>
  <cp:revision>234</cp:revision>
  <dc:subject/>
  <dc:title>Slide 1</dc:title>
</cp:coreProperties>
</file>